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1FF-BCEB-49AD-B53F-80CBE54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1BF-57AC-4CD8-8CBF-D7B5FD6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B44-CD00-46D6-B2D8-B47F8C9F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1C5-F1CC-415E-BF4B-AE800BC1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117-FF6F-424B-AB19-DC982BD2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1D89-81C9-4CFA-AF99-D390BD49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36D5-9F31-4F68-8C81-8ABFEC8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5BAB-9184-47F4-B84B-52D1C730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D319-CD0F-48D5-8A2F-3F9416D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BE2-D204-43EE-A9A9-91BB382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564-C601-497B-9F7B-B374B27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CF0-DD7D-4404-A949-8500288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AE7-C309-457A-A3CC-E6A0174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1C5-A579-4518-8052-DDD551B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F894-EB60-4EE3-837F-10CFDDA8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BBC-744F-4C36-94AA-88051BD6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F491-04DA-401F-A33D-ECA4B029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57D3-7F90-4F65-97A7-802685C1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79F5-A8CC-48FE-AAC1-FE9AC760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8549-8F6B-4DF9-86F2-27BAF58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EF30-A95E-4304-B4FA-62CAD58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6EBE-64F9-4158-A8C2-B97E993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9C5-6785-4D6F-BB13-9650A88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3FC4-12BB-437F-98A6-CE77E51F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70A7-62C1-4FEC-B271-605CAB5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39D6-0858-445F-962A-592AC34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EDBD-CA1B-4E05-A08C-8768585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E354-008D-4BA4-B92C-3191381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2030-B255-4264-99E0-7BAE2924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5C16-B783-4792-B6A1-12912E65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7F9A-292F-4D10-A330-549A5337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A0B4-1D12-4C64-8E3B-C3F29B25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2AC7-7D3C-40C9-8141-10842F7F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683-0B85-462C-827F-4A6036FA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2FF0-EB0B-4AD5-BC94-27B6C37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B915-3CF1-44BB-96BF-49CE36E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5486-3514-45FD-8D9C-BE9E8125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93AD-88E7-42B5-8A2A-8C8990A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7BED-BFBD-492F-B8DC-44E2421A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44DB-4103-48BB-8579-C2A0868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E238-1106-4B49-B1BA-48B4624B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00C5-2A2B-479B-958F-0DD3055F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9856-8523-45E6-A2BC-96D73307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6EEA-8117-44E1-8EC4-CA1FB973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08E-EC19-4AB1-AB9B-9C1B1C9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59AC-9B9F-4EF4-934A-ADA69C36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4BFE-2A17-480B-AFE5-11CCC3B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61C9-7375-4DB6-A7FF-2694D61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6503-1AAA-4DC8-9934-7C77180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6A80-74A6-4A80-869A-3F79346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EDD1-976F-42BB-8B78-4F8C56BC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B8FEE-9C27-4930-95D7-3A95AE1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7972-A65D-4F81-AA74-75C1BC3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DA7D-591F-4B0F-8028-5562227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CAAA-BD81-4C69-A515-4861B6A7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7E8-412F-4620-A01F-B307DC2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B433-B3C6-4F50-8F36-A5F41FE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856D-C543-460C-8AB4-20A6B88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9651-58BF-4F22-9406-7DD8B9C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563B-3EF5-45C4-A200-14ADFF8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0925B-2C35-4090-8197-ED3ED9E7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1EC3-22A5-49C5-921C-2AB77B7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A2EC-E1CC-4357-9019-A153D32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D746-B46D-48FD-8394-67052F4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EC46-F0F9-49B6-B808-30D4BBC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FE19-7082-44AC-9E8E-75853CA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2FB-28F6-4BE3-95C8-D1DDFBC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E729-233C-43D9-B3D5-3CF9602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EE0F-B200-498E-9AD9-87102AC2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714B-4D89-4A6A-B281-572E56A2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340A-320B-483A-92AE-7A840A1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8B61-BCE4-4449-97F8-BAD7DA8D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F4BB-D818-43E0-BC7B-BA4BF12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5A41A-D332-44E6-AFF6-876701B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2D27-2D5E-42AB-AF37-9E55096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13BA-F5E6-440C-8FE0-42652AD4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64D35-6EC4-48F2-950B-6F199BE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871-3D50-492A-8E2F-305DD00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6C228-010C-4A72-AC49-DC82BC2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F469-788C-44C9-99DA-E0AA348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C18E0-BABF-4B85-8031-BDAD8DB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0530-B54C-44A9-A2DB-286468BC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6C45-55B9-4D41-8326-AA89BBE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50BA1-2477-47FB-81DA-04F60F7F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57174-047D-4943-B3B1-A7FAEE90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7DFA9-101E-45AA-BCD9-CDAF76FA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57782-4390-4C16-BB38-E451E60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63EB9-D9B6-476E-B9A8-20685D95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337-89CE-4B5E-A314-C8EB761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1AAB-BB42-4710-95E8-23445D6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D974-BC04-4A05-BAB6-5D08143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EAC6-1604-41C4-984E-84A1C26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2E978-85E7-44AF-B303-170608F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321FD-4ED7-40D1-B9BC-3B6648AE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C8DE-91D2-4997-8188-07EFAF6A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4DBF-9256-4680-BB8E-1F08629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7DB-FC10-420B-BDA9-A6F8E473960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30F-D9A0-4BA1-BE26-B526CE18A1A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FDE-BEE0-4E5B-B0B3-1D356B5ED12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DD6F-388B-4667-ABE9-5744747E0C3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4A69-12FB-4516-84BA-6BE797C10C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D0F-03EA-4B6C-9B34-B03F6144D01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B39B-9F25-4B77-B65A-B9ED00694DC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E1F4-C97A-4E51-98F8-F51AD20D5D3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3597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3017880" cy="1139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0430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786120" y="274320"/>
            <a:ext cx="460872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еханик имеет право бесплатного пользования для служебных целей средствами телеграфно – телефонной связи, проезда по делам службы в пределах дистанции во всех поездах и на одиночно следующих локомотивах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онтер работает под руководством и контролем электромеханика, подчиняется ему и несет перед ним полную ответственность за выполняемые работы . Обычно электромонтеру  поручаются работы, требующие несколько меньших значений, чем у электромеханика. Например, в устройствах автоматики электромонтеры производят осмотр сети и т.п., а в устройствах проводной связи – осмотр линейных сооружений, местных сетей, телефонных аппаратов и т. тп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электромонтеров осуществляется в профессионально – технических училищах, на специальных курсах, а иногда в порядке индивидуального обучения. При подготовке электромонтеров и в практике их работы больше внимания уделяется умению выполнять слесарные , кузнечные, линейные, кабельные, монтажные работы. Что же касается знания и выполнения правил и инструкций, то вышесказанное в основном и на электромон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3357360" cy="550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2872080" cy="993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17575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786040" y="274680"/>
            <a:ext cx="5608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рший электромеханик – руководит работой электромехаников и бригад, которые входят в состав его участка, и несет ответственность за работу устройств и подчиненного  ему технического персонала. Сам старший электромеханик подчиняется, как правило, начальнику производственного участ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рший электромеханик назначается из числа наиболее квалифицированных и опытных электромехаников, и к нему в полной мере предъявляются требования, обязательные для электромехаников. Старший электромеханик обязан на своем участке организовать работу электромехаников и электромонтеров по планам – графикам технологического процесса, оперативным планам, систематически проверять их работу и обеспечивать правильное и безотказное действие устройств автоматики и связи, а также нормальную видимость сигналов, проверяя ее с пути или локомотива не реже одного раза в месяц Ряд работ старший электромеханик выполняет вместе с электромеханиками и  свои замечания старший электромеханик передает электромеханикам, а наиболее существенные записывает в специальный журнал (форма ШУ – 2). Он обучает электромехаников технике дела, передовым приемам и правилам производства работ. Обучение производства непосредственно в процессе выполнения работ по техническому обслуживанию и проверке действия устройств или на тренажерах. При  обучении особенно важно показывать электромеханику, как нужно делать ту или иную работу, поправлять его, выяснять пробелы в его занятиях, на которых изучаются как сами устройства, так и порядок производства работ по их содержанию и ремонту, а также действующие правила и инструкци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428760" y="928800"/>
            <a:ext cx="1857240" cy="5715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1213920"/>
            <a:ext cx="525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и осложнении ситуации на участке (авария с поездками, отказ устройств, гололед и т.п.), старший электромеханик должен немедленно явиться к месту происшествия и лично руководить восстановительными работам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ведения о  происшедших нарушениях в действии устройств на руководимом участке и причинах, вызвавших эти нарушения, старший электромеханик обязан немедленно передавать в дистанцию. По окончании каждого месяца он составляет и предъявляет в дистанцию отчет о выполнении месячного плана работ., о результатах производственной деятельности электромехаников и электромонтеров своего участка, а отличившихся представляет к поощрению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6000840" y="1285920"/>
            <a:ext cx="2695320" cy="4429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Начальник производственного участка руководит несколькими участками старших электромехаников. Он организует и контролирует правильность выполнения технологического процесса, плана повышения надежности, проверяет состояние устройств, помогает выявлению причин при сложных нарушениях нормальной работы техники, дает предложения по развитию и модернизации, лучшему использованию устройств. Кроме того, он контролирует и принимает ремонтные и строительные  работы, организует техническую учебу, обмен опытом, распределяет материалы и т.д. Начальник производственного участка несет полную ответственность за правильное и надежное действие всех устройств автоматики и связи на своем участке и обеспечение безопасности движения поезд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0040" y="142884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ремонтно – технологического участка осуществляет перспективное планирование развития РТУ, совершенствует его работу, внедряет типовые проекты организации труда по индустриальному методу обслуживания устройств СЦБ и связи; анализирует объемы и трудоемкости всех работ РТУ с  обоснованием штатного расписания; анализирует качество работ в бригадах РТУ (с проверкой качества ведения технологической документации) и принимает меры к его повышению; расследует причины отказов приборов или других устройств с выездом на линию; оказывает квалифицированную  методологическую помощь бригадам РТУ в решении технологических и технических вопросов; принимает участие в разработке годовых и месячных планов работы бригад РТУ, анализирует и контролирует их выполнение; организует и участвует в проверке технической документации на пульты и стенды РТУ, их метрологической аттестации, вносит изменения в технические документы на основании руководящих указаний. Кроме того, начальник РТУ проводит мероприятия и осуществляет контроль за соблюдением требований охраны труда и техники безопасности, трудовой и производственной дисциплины; развивает и укрепляет материально – техническую базу РТУ на основе достижений науки и техник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3024000" cy="2571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одержимое 1" descr=""/>
          <p:cNvPicPr/>
          <p:nvPr/>
        </p:nvPicPr>
        <p:blipFill>
          <a:blip r:embed="rId1"/>
          <a:stretch/>
        </p:blipFill>
        <p:spPr>
          <a:xfrm>
            <a:off x="438120" y="2382840"/>
            <a:ext cx="8381880" cy="1335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ной задачей работников дистанций сигнализации и связи является обеспечение эксплуатационной надежности устройств автоматики, телемеханики и связи при безусловном соблюдении всех требований безопасности движения поездов, что регламентируется Инструкцией по техническому обслуживанию устройств сигнализации, централизации и блокировки (ЦШ 720). Инструкцией по обеспечению безопасности движения поездов при производстве работ по техническому обслуживанию и ремонту устройств СЦБ (ЦШ 530), Инструкцией по организации системы технического обслуживания устройств проводной связи на железнодорожном транспорте (ЦШ 4669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струкцией по техническому обслуживанию устройств предназначены для руководства при организации и выполнении работ по техническому обслуживанию и ремонту устройств. Они устанавливают порядок и основные технические требования, необходимые для обслуживания и ремонта устройств и содержат: перечень и периодичность выполнения работ; профессию исполнителя и основные технические нормы и допуски, которым должны отвечать устройства; методы планирования и учета работ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струкция ЦШ 530 устанавливает порядок производства работ, обеспечивающий безопасность движения поездов при техническом обслуживании, ремонте и устранении неисправностей устройств СЦБ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Решение задач по обеспечению эксплуатационной надежности устройств автоматики, телемеханики и связи достигается путем организации системы технического обслуживания устройств, которая включает в себя 4 группы работ: регламентные – основные работы технологического процесса; дополнительные работы, проводимые по планам повышения надежности; восстановление устройств после отказов; комплексные проверки состояния устройств. Непосредственно текущим обслуживанием устройств автоматики, телемеханики и связи занят технический персонал дистанции – электромеханики и электромонтеры, работающие под непосредственным руководством и контролем старших электромехаников и начальников производственных участк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4249800"/>
          </a:xfrm>
          <a:prstGeom prst="rect">
            <a:avLst/>
          </a:prstGeom>
          <a:ln w="0">
            <a:noFill/>
          </a:ln>
        </p:spPr>
      </p:pic>
      <p:pic>
        <p:nvPicPr>
          <p:cNvPr id="379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5786280" y="2071800"/>
            <a:ext cx="2881440" cy="27464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6"/>
          <p:cNvSpPr/>
          <p:nvPr/>
        </p:nvSpPr>
        <p:spPr>
          <a:xfrm>
            <a:off x="5812200" y="4572000"/>
            <a:ext cx="191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31f20"/>
                </a:solidFill>
                <a:latin typeface="TextBookC-Bold"/>
              </a:rPr>
              <a:t>Электромеханик Максим Сер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7"/>
          <p:cNvSpPr/>
          <p:nvPr/>
        </p:nvSpPr>
        <p:spPr>
          <a:xfrm>
            <a:off x="428760" y="1643040"/>
            <a:ext cx="5429160" cy="5961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31f20"/>
                </a:solidFill>
                <a:latin typeface="TextBookC-Bold"/>
              </a:rPr>
              <a:t>11 марта, девять утра. Мы на посту маршрутно!релейной централизации Днепропетровской шестой дистанции сигнализации и связ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лектромеханик- ведущая профессия в хозяйстве сигнализации и связи, относящаяся к категории инженерно – технических работников. Электромеханик обязан хорошо теоретически и практически знать обслуживаемые устройства, уметь выполнять слесарно -  монтажные работы, регулировку и ремонт устройств, пользоваться измерительными приборами, а также знать Правила технической эксплуатации железных дорог (ПТЭ), Инструкции по сигнализации и движению поездов. Устав о дисциплине работников железнодорожного транспорта, руководящие приказы и должностные инструкции. При назначении на должность, а в дальнейшем периодически, электромеханики подвергаются испытаниям в знании всех этих документов. От электромехаников, как и от других работников технического персонала, требуются хорошее знание и строгое выполнение правил производства работ, правил техники безопасности и охраны окружающей среды, умение оказывать первую помощь пострадавшему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3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3067200" cy="554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3757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полняя работы по техническому обслуживанию устройств и плану повышения надежности, электромеханик обязан контролировать работу приданного ему штата (обычно электромонтера) и обеспечивать в конечном счете правильное и безопасное действие устройств, а также нормальную видимость сигналов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получении извещения о повреждении устройств электромеханик обязан немедленно, независимо от времени суток , прибыть на место и принять  все зависящие от него меры к быстрейшему устранению неисправности. Необходимость обеспечения бесперебойной работы устройств и сведения  продолжительности вынужденных перебоев к минимуму требует от электромеханика постоянно сообщать о своем местонахождении дежурным работникам (как правило, диспетчеру дистанции или дежурному по станции)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>
            <a:lum contrast="34000"/>
          </a:blip>
          <a:stretch/>
        </p:blipFill>
        <p:spPr>
          <a:xfrm>
            <a:off x="5072040" y="0"/>
            <a:ext cx="2906640" cy="3143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5143680" y="3643200"/>
            <a:ext cx="2774880" cy="27529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8"/>
          <p:cNvSpPr/>
          <p:nvPr/>
        </p:nvSpPr>
        <p:spPr>
          <a:xfrm>
            <a:off x="5091480" y="6143760"/>
            <a:ext cx="1931760" cy="215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31f20"/>
                </a:solidFill>
                <a:latin typeface="TextBookC-Bold"/>
              </a:rPr>
              <a:t>Электромеханик Андрей Шир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9"/>
          <p:cNvSpPr/>
          <p:nvPr/>
        </p:nvSpPr>
        <p:spPr>
          <a:xfrm>
            <a:off x="5072040" y="3143160"/>
            <a:ext cx="2928960" cy="3373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31f20"/>
                </a:solidFill>
                <a:latin typeface="TextBookC-Bold"/>
              </a:rPr>
              <a:t>Электромеханики Виктор Самодрыга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31f20"/>
                </a:solidFill>
                <a:latin typeface="TextBookC-Bold"/>
              </a:rPr>
              <a:t>Олег Тонконоженко, Петр Заба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собые  требования предъявляет к электромеханику обслуживание устройств автоматики, обеспечивающих безопасность движения поездов. Строгая система зависимостей, закладываемая в такие устройства, требуют исключить доступ к элементам, этих зависимостей всех других лиц, включая и работников службы движения, пользующихся аппаратами. Поэтому аппараты управления и приборы, расположенные в помещении дежурных по станции, исполнительных (в том числе стрелочных) постов, дежурных по переездам, должны быть опломбированы пломбой электромеханика. Для этого каждому электромеханику выдают пломбировочные тиски с определенным шифром. Вскрывать аппарат может только электромеханик или электромонтер по его поручению (а также вышестоящие руководители) с  обязательной предварительной )т.е до вскрытия) записью в соответствующем журнале осмотра, имеющемся у дежурного по станции. Закрытие аппарата сопровождается его пломбировкой с последующей записью электромеханика в том же журнал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ременное выключение из действия устройств автоматики при их осмотре или ремонте так же, как и последующее включение, требуют соблюдения  строгого порядка, установленного специальной инструкцией, и оформления записи в журнале осмот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роме указанных, на электромехаников возлагается еще ряд специальных обязанностей (участие в комиссиях, инструктаж и т.п.), которые перечислены в инструкциях по техническому обслуживанию устройств автоматики и связи. Дежурные электромеханики постов диспетчерской и электрической централизации, линейно – аппаратных залов, автоматических телефонных станций(АТС) и других крупных производственных участков во время своего дежурства несут ответственность не только за прикрепленные к ним устройства, но и за бесперебойную  работу всего участка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и  стихийных явлениях (грозе, гололеде, наводнении, буре, анонсе, пожаре и т.д.), которые могут вызвать нарушение действия устройств или создать угрозу нормальному их действию, электромеханик обязан немедленно сообщить об этом старшему электромеханику и принять меры к обеспечению бесперебойной работы устройств,, а при авариях и отказах – к быстрейшей их ликвидаци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4:38Z</dcterms:created>
  <dc:creator>Admin</dc:creator>
  <dc:description/>
  <dc:language>en-US</dc:language>
  <cp:lastModifiedBy>Виктория</cp:lastModifiedBy>
  <dcterms:modified xsi:type="dcterms:W3CDTF">2011-06-21T18:06:07Z</dcterms:modified>
  <cp:revision>30</cp:revision>
  <dc:subject/>
  <dc:title>Слайд 1</dc:title>
</cp:coreProperties>
</file>