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380C-A4A6-4B8E-B56D-60A841B0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6EED-2140-44E0-A17D-2116A98D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FCB1-F11D-494C-9667-AE08A9CF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DB6-3EDD-4905-AF16-A3C68C67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6B1-6D88-4EC5-A755-470F5C1A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AFE8-1775-49DE-8243-23744F4A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16B3-E17A-48E9-8E28-8091E8A1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DADD-0CAD-43BB-8DC2-7CD91021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7C3D-3F16-41D1-B49A-EC2B9CAF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5770-F25B-4B5C-827F-FF81C017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FA1A-DE82-4709-85D3-193303A0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563-3C4A-4C6E-9A49-874B10DC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3C67-B558-45C5-803C-447C66A9B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ккумуля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знач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ип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ормы содержа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обенности эксплуатац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2T12:38:17Z</dcterms:created>
  <dc:creator>1</dc:creator>
  <dc:description/>
  <dc:language>en-US</dc:language>
  <cp:lastModifiedBy>1</cp:lastModifiedBy>
  <dcterms:modified xsi:type="dcterms:W3CDTF">2013-12-22T12:38:45Z</dcterms:modified>
  <cp:revision>1</cp:revision>
  <dc:subject/>
  <dc:title>Аккумуляторы</dc:title>
</cp:coreProperties>
</file>